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369-17A6-4DD2-BAA9-098DD806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29680"/>
            <a:ext cx="8218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F72-A4E0-4FD4-BA00-60C19085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2968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82968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2D8-3654-44F1-BB23-D8B8140F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19664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19664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2968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82968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82968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D79-BD21-44B0-A4D9-5458F2C0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381E-4E89-4E37-996B-84B52846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96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EDB0-C613-4ABA-957C-EFEB21C9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6DF3-8D35-41AD-92DC-693394AB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0D11-38C5-4994-A519-2B982BF5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B31-4581-4725-812B-86D65624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6F43-07D4-40D1-9B7C-40A65373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82968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C6D-165E-4188-9337-5ABD6575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96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CCE-EBD9-434A-8FF7-3F307356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120" y="382968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FB1-EE8E-4D41-A387-835493A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829680"/>
            <a:ext cx="8218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8A25-B28A-44DC-A890-3BEC2F3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829680"/>
            <a:ext cx="8218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8612-A62E-4E91-8E50-A382222C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82968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120" y="382968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5A17-6AD6-4066-84D5-FFBBDFFA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5680" y="119664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160" y="119664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82968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5680" y="382968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160" y="3829680"/>
            <a:ext cx="2646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C90C-AE13-445C-90EC-AE54FE00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324-EB80-4E71-8248-7BFA8CC0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92B-B7FB-4586-B678-7DB6D528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9B8-117D-4496-BD65-B6761BE6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46A-A719-41B4-8CDB-5C244146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2968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302-F85C-4844-B3E2-2E9F92E7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82968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52F-807B-47E8-BE23-16F93A1D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196640"/>
            <a:ext cx="40104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29680"/>
            <a:ext cx="8218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F22-74DE-4CE1-93ED-A6469BF0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ae8e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196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spcBef>
                <a:spcPts val="601"/>
              </a:spcBef>
              <a:buClr>
                <a:srgbClr val="dddddd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ＭＳ Ｐゴシック"/>
              </a:rPr>
              <a:t>Second Outline Level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2" marL="1143000" indent="-228600">
              <a:spcBef>
                <a:spcPts val="601"/>
              </a:spcBef>
              <a:buClr>
                <a:srgbClr val="c8ae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ＭＳ Ｐゴシック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3" marL="1600200" indent="-228600">
              <a:spcBef>
                <a:spcPts val="601"/>
              </a:spcBef>
              <a:buClr>
                <a:srgbClr val="dddddd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ＭＳ Ｐゴシック"/>
              </a:rPr>
              <a:t>Fourth Outline Level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4" marL="2057400" indent="-228600">
              <a:spcBef>
                <a:spcPts val="601"/>
              </a:spcBef>
              <a:buClr>
                <a:srgbClr val="dddddd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ＭＳ Ｐゴシック"/>
              </a:rPr>
              <a:t>Fifth Outline Level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5" marL="2057400" indent="-228600">
              <a:spcBef>
                <a:spcPts val="601"/>
              </a:spcBef>
              <a:buClr>
                <a:srgbClr val="dddddd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ＭＳ Ｐゴシック"/>
              </a:rPr>
              <a:t>Sixth Outline Level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6" marL="2057400" indent="-228600">
              <a:spcBef>
                <a:spcPts val="601"/>
              </a:spcBef>
              <a:buClr>
                <a:srgbClr val="dddddd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ＭＳ Ｐゴシック"/>
              </a:rPr>
              <a:t>Seventh Outline Level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ddddd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ddddd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ddddd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973F-27EF-403B-9BFA-CC00DB1BC1D6}" type="slidenum">
              <a:rPr b="0" lang="en-US" sz="1000" spc="-1" strike="noStrike">
                <a:solidFill>
                  <a:srgbClr val="dddddd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07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8172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ddddd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ＭＳ Ｐゴシック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8172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ddddd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ddddd"/>
                </a:solidFill>
                <a:latin typeface="ＭＳ Ｐゴシック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38172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ddddd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005A-D0E7-4D4A-9F44-2D3DCF81E804}" type="slidenum">
              <a:rPr b="0" lang="en-US" sz="1000" spc="-1" strike="noStrike">
                <a:solidFill>
                  <a:srgbClr val="dddddd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dddddd"/>
              </a:solidFill>
              <a:latin typeface="ＭＳ Ｐゴシック"/>
            </a:endParaRPr>
          </a:p>
          <a:p>
            <a:pPr lvl="2" marL="914400" algn="ctr">
              <a:spcBef>
                <a:spcPts val="451"/>
              </a:spcBef>
              <a:buClr>
                <a:srgbClr val="c8ae8e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ＭＳ Ｐゴシック"/>
              </a:rPr>
              <a:t>Third Outline Level</a:t>
            </a:r>
            <a:endParaRPr b="0" lang="en-US" sz="1800" spc="-1" strike="noStrike">
              <a:solidFill>
                <a:srgbClr val="dddddd"/>
              </a:solidFill>
              <a:latin typeface="ＭＳ Ｐゴシック"/>
            </a:endParaRPr>
          </a:p>
          <a:p>
            <a:pPr lvl="3" marL="1371600" algn="ctr">
              <a:spcBef>
                <a:spcPts val="451"/>
              </a:spcBef>
              <a:buClr>
                <a:srgbClr val="dddddd"/>
              </a:buClr>
              <a:buFont typeface="ＭＳ Ｐゴシック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ＭＳ Ｐゴシック"/>
              </a:rPr>
              <a:t>Fourth Outline Level</a:t>
            </a:r>
            <a:endParaRPr b="0" lang="en-US" sz="1800" spc="-1" strike="noStrike">
              <a:solidFill>
                <a:srgbClr val="dddddd"/>
              </a:solidFill>
              <a:latin typeface="ＭＳ Ｐゴシック"/>
            </a:endParaRPr>
          </a:p>
          <a:p>
            <a:pPr lvl="4" marL="1828800" algn="ctr">
              <a:spcBef>
                <a:spcPts val="451"/>
              </a:spcBef>
              <a:buClr>
                <a:srgbClr val="dddddd"/>
              </a:buClr>
              <a:buFont typeface="ＭＳ Ｐゴシック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ＭＳ Ｐゴシック"/>
              </a:rPr>
              <a:t>Fifth Outline Level</a:t>
            </a:r>
            <a:endParaRPr b="0" lang="en-US" sz="1800" spc="-1" strike="noStrike">
              <a:solidFill>
                <a:srgbClr val="dddddd"/>
              </a:solidFill>
              <a:latin typeface="ＭＳ Ｐゴシック"/>
            </a:endParaRPr>
          </a:p>
          <a:p>
            <a:pPr lvl="5" marL="1828800">
              <a:spcBef>
                <a:spcPts val="451"/>
              </a:spcBef>
              <a:buClr>
                <a:srgbClr val="dddddd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ＭＳ Ｐゴシック"/>
              </a:rPr>
              <a:t>Sixth Outline Level</a:t>
            </a:r>
            <a:endParaRPr b="0" lang="en-US" sz="1800" spc="-1" strike="noStrike">
              <a:solidFill>
                <a:srgbClr val="dddddd"/>
              </a:solidFill>
              <a:latin typeface="ＭＳ Ｐゴシック"/>
            </a:endParaRPr>
          </a:p>
          <a:p>
            <a:pPr lvl="6" marL="1828800">
              <a:spcBef>
                <a:spcPts val="451"/>
              </a:spcBef>
              <a:buClr>
                <a:srgbClr val="dddddd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ＭＳ Ｐゴシック"/>
              </a:rPr>
              <a:t>Seventh Outline Level</a:t>
            </a:r>
            <a:endParaRPr b="0" lang="en-US" sz="18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ope.avi" TargetMode="External"/><Relationship Id="rId3" Type="http://schemas.openxmlformats.org/officeDocument/2006/relationships/hyperlink" Target="file:///exa11.avi" TargetMode="External"/><Relationship Id="rId4" Type="http://schemas.openxmlformats.org/officeDocument/2006/relationships/hyperlink" Target="file:///exa12.avi" TargetMode="External"/><Relationship Id="rId5" Type="http://schemas.openxmlformats.org/officeDocument/2006/relationships/hyperlink" Target="file:///exa21.avi" TargetMode="External"/><Relationship Id="rId6" Type="http://schemas.openxmlformats.org/officeDocument/2006/relationships/hyperlink" Target="file:///exa22.avi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560" y="476280"/>
            <a:ext cx="72388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Tweakable” Shadows</a:t>
            </a:r>
            <a:br>
              <a:rPr sz="4400"/>
            </a:b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for Cartoon Animation</a:t>
            </a:r>
            <a:endParaRPr b="0" lang="en-US" sz="44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66960" y="4844880"/>
            <a:ext cx="72007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dddddd"/>
                </a:solidFill>
                <a:latin typeface="Times New Roman"/>
              </a:rPr>
              <a:t>WASEDA University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dddddd"/>
                </a:solidFill>
                <a:latin typeface="Times New Roman"/>
              </a:rPr>
              <a:t>Hidehito Nakajima   Eiji Sugisaki   Shigeo Morishima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002200" y="2349360"/>
          <a:ext cx="237816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2200" y="2349360"/>
                    <a:ext cx="2378160" cy="213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4"/>
          <a:srcRect l="5906" t="0" r="11813" b="7875"/>
          <a:stretch/>
        </p:blipFill>
        <p:spPr>
          <a:xfrm>
            <a:off x="1763640" y="2349360"/>
            <a:ext cx="2346480" cy="2135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905360" y="2565360"/>
            <a:ext cx="1979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gre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ae8e"/>
                </a:solidFill>
                <a:latin typeface="Times New Roman"/>
              </a:rPr>
              <a:t>Equation of deformation</a:t>
            </a: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4440" y="1592280"/>
                <a:ext cx="6812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[</m:t>
                    </m:r>
                    <m:r>
                      <m:t xml:space="preserve">ε</m:t>
                    </m:r>
                    <m:r>
                      <m:t xml:space="preserve">]</m:t>
                    </m:r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397320" y="4832280"/>
                <a:ext cx="23270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397320" y="4267080"/>
                <a:ext cx="23270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042920" y="3127320"/>
                <a:ext cx="881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716360" y="2565360"/>
                <a:ext cx="3920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3967920" y="98100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43320" y="3657600"/>
            <a:ext cx="42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mount of deform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7320" y="2565360"/>
            <a:ext cx="23274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posi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81360" y="3129120"/>
            <a:ext cx="434628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 of the shadow objec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565360"/>
                <a:ext cx="957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12720" y="5410080"/>
                <a:ext cx="9684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06600" y="5945040"/>
                <a:ext cx="118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411280" y="5410080"/>
            <a:ext cx="42325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 of the shadow objec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5840" y="5950080"/>
            <a:ext cx="49705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mouse movemen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746520" y="1447920"/>
          <a:ext cx="1644480" cy="16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46520" y="1447920"/>
                    <a:ext cx="1644480" cy="1644480"/>
                  </a:xfrm>
                  <a:prstGeom prst="rect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042920" y="3962520"/>
          <a:ext cx="1644840" cy="165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2920" y="3962520"/>
                    <a:ext cx="1644840" cy="1650960"/>
                  </a:xfrm>
                  <a:prstGeom prst="rect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740040" y="3935520"/>
          <a:ext cx="1641600" cy="165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40040" y="3935520"/>
                    <a:ext cx="1641600" cy="1654200"/>
                  </a:xfrm>
                  <a:prstGeom prst="rect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3746520" y="1457280"/>
          <a:ext cx="1644480" cy="1644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46520" y="1457280"/>
                    <a:ext cx="1644480" cy="1644840"/>
                  </a:xfrm>
                  <a:prstGeom prst="rect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ae8e"/>
                </a:solidFill>
                <a:latin typeface="Times New Roman"/>
              </a:rPr>
              <a:t>Animation of deformation</a:t>
            </a: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477120" y="3962520"/>
          <a:ext cx="1647720" cy="165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3962520"/>
                    <a:ext cx="1647720" cy="1654200"/>
                  </a:xfrm>
                  <a:prstGeom prst="rect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343400" y="3352680"/>
            <a:ext cx="485640" cy="37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58440" y="5867280"/>
            <a:ext cx="42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imation 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diting win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86080" y="4076640"/>
            <a:ext cx="744840" cy="720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7080" y="4076640"/>
            <a:ext cx="744480" cy="720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4076640"/>
            <a:ext cx="744840" cy="720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250" autoRev="1" fill="hold"/>
                                        <p:tgtEl>
                                          <p:spTgt spid="1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-81000" y="4648320"/>
            <a:ext cx="409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hadow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render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to the groun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4555800" y="3141720"/>
            <a:ext cx="368280" cy="303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45320" y="3201840"/>
            <a:ext cx="20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Shadow objec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080" y="259236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3D mod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559400" y="3068640"/>
            <a:ext cx="1295280" cy="3084480"/>
          </a:xfrm>
          <a:prstGeom prst="parallelogram">
            <a:avLst>
              <a:gd name="adj" fmla="val 2795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3124080"/>
            <a:ext cx="1219320" cy="3048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4520" y="6186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ha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43560" y="2590920"/>
            <a:ext cx="942840" cy="942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5. Transformation phase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657600" y="6165720"/>
            <a:ext cx="4227480" cy="64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73800" y="3060720"/>
            <a:ext cx="396720" cy="31114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32360" y="6165720"/>
            <a:ext cx="9349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96480" y="3044880"/>
            <a:ext cx="97560" cy="87012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6172200"/>
            <a:ext cx="9144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649840" y="12175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irectional ligh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1295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ipulate vector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228600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160" y="2689200"/>
            <a:ext cx="317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-create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dow volume b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ipulating vector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426708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570560" y="3071880"/>
            <a:ext cx="917280" cy="27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080" bIns="-1908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59400" y="3124080"/>
            <a:ext cx="1218960" cy="30481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324320" y="1477800"/>
            <a:ext cx="223920" cy="1663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08200" y="1537920"/>
            <a:ext cx="187920" cy="15343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548240" y="3060720"/>
            <a:ext cx="2147760" cy="3098880"/>
          </a:xfrm>
          <a:prstGeom prst="parallelogram">
            <a:avLst>
              <a:gd name="adj" fmla="val 56861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01320" y="6181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ha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3048120"/>
            <a:ext cx="287280" cy="79200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41400" y="3097800"/>
            <a:ext cx="127800" cy="86580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137040"/>
            <a:ext cx="287280" cy="79200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ae8e"/>
                </a:solidFill>
                <a:latin typeface="Times New Roman"/>
              </a:rPr>
              <a:t>Transformation process - equations</a:t>
            </a: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ranslation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056040" y="1844640"/>
                <a:ext cx="30002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089160" y="3573360"/>
                <a:ext cx="2924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γ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332000" y="5013360"/>
                <a:ext cx="26589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332000" y="5789520"/>
                <a:ext cx="21272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940200" y="5013360"/>
            <a:ext cx="322416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vector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2520" y="2997360"/>
            <a:ext cx="40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cal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19640" y="5791320"/>
            <a:ext cx="475272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tent of transformation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c8ae8e"/>
                </a:solidFill>
                <a:latin typeface="Times New Roman"/>
              </a:rPr>
              <a:t>．</a:t>
            </a: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1520" y="1773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Platform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CPU</a:t>
            </a: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：</a:t>
            </a: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Genuine Intel T2600 2.16GHz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GPU</a:t>
            </a: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：</a:t>
            </a: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NVIDIA GeForce Go 7400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Graphics API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C++, DirectX 9.0c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88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ae8e"/>
                </a:solidFill>
                <a:latin typeface="Times New Roman"/>
              </a:rPr>
              <a:t>Demonstration</a:t>
            </a: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2184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1. </a:t>
            </a:r>
            <a:r>
              <a:rPr b="0" lang="en-US" sz="28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Operation Example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2. Edit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– case 1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3"/>
              </a:rPr>
              <a:t>Original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4"/>
              </a:rPr>
              <a:t>Edited example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3. Edit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– case 2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5"/>
              </a:rPr>
              <a:t>Original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- 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6"/>
              </a:rPr>
              <a:t>Edited example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7. Conclusion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2203560"/>
            <a:ext cx="82072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creative freedom – no more lighting constraints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ＭＳ Ｐゴシック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ＭＳ Ｐゴシック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ＭＳ Ｐゴシック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ＭＳ Ｐゴシック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efficiency – a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oduce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 key-frame animation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77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8. Future Work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1520" y="2145960"/>
            <a:ext cx="821844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ling collapses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asionally, shadows collapse when rotated after deformation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ing a more intuitive interface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59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Acknowledgements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8218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This research is supported by the Japan Science and Technology Agency’s CREST project 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Additional thanks to</a:t>
            </a:r>
            <a:br>
              <a:rPr sz="2800"/>
            </a:b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Ken Anjyo, Aiko Nakatani, Richard</a:t>
            </a:r>
            <a:r>
              <a:rPr b="0" lang="ja-JP" sz="2400" spc="-1" strike="noStrike">
                <a:solidFill>
                  <a:srgbClr val="dddddd"/>
                </a:solidFill>
                <a:latin typeface="ＭＳ Ｐゴシック"/>
              </a:rPr>
              <a:t> </a:t>
            </a: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Sproston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6840" y="90756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Times New Roman"/>
              </a:rPr>
              <a:t>Thank you for your attention!</a:t>
            </a:r>
            <a:endParaRPr b="0" lang="en-US" sz="36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Times New Roman"/>
              </a:rPr>
              <a:t>Any Questions? </a:t>
            </a:r>
            <a:endParaRPr b="0" lang="en-US" sz="4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Times New Roman"/>
              </a:rPr>
              <a:t>E-mail: nakajima@mlab.phys.waseda.ac.jp</a:t>
            </a:r>
            <a:endParaRPr b="0" lang="en-US" sz="36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1520" y="1371240"/>
            <a:ext cx="82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1. Introduction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.1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History of Cartoon Animation</a:t>
            </a:r>
            <a:endParaRPr b="0" lang="en-US" sz="20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2 Why shadows?</a:t>
            </a:r>
            <a:endParaRPr b="0" lang="en-US" sz="20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Related Work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The Shadow editing process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Deformation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1 making the shadow object</a:t>
            </a:r>
            <a:endParaRPr b="0" lang="en-US" sz="20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2 deformation</a:t>
            </a:r>
            <a:endParaRPr b="0" lang="en-US" sz="20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Transformation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Results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Conclusion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8. Future Work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1.1. Cartoon Animation - History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71108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Traditional 2D cel animation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Expresses the animator’s personal style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3DCG cartoon animation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Computers have improved working efficiency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Times New Roman"/>
              </a:rPr>
              <a:t>Unified 2D and 3D animation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Combines the advantages of both 2D and 3D 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1.2. Why shadows?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dows in 3DCG animation are calculated automatically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DCG shadows are rendered according to the relationship between the 3D model and light source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oal of our research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shadow editing intuitive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2. Related work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82184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[Pellacini, Tole, and Greenberg, 2002]</a:t>
            </a:r>
            <a:endParaRPr b="0" lang="en-US" sz="2800" spc="-1" strike="noStrike">
              <a:solidFill>
                <a:srgbClr val="dddddd"/>
              </a:solidFill>
              <a:latin typeface="ＭＳ Ｐゴシック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Allowed animators to move the actual shadow itself</a:t>
            </a: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ＭＳ Ｐゴシック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05360"/>
            <a:ext cx="8218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dddddd"/>
                </a:solidFill>
                <a:latin typeface="Times New Roman"/>
              </a:rPr>
              <a:t>[Anjyo, Wemler, and Baxter, 2006]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Enabled animators</a:t>
            </a:r>
            <a:r>
              <a:rPr b="0" lang="ja-JP" sz="2400" spc="-1" strike="noStrike">
                <a:solidFill>
                  <a:srgbClr val="dddddd"/>
                </a:solidFill>
                <a:latin typeface="Times New Roman"/>
              </a:rPr>
              <a:t> to edit stylized highlight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dddddd"/>
                </a:solidFill>
                <a:latin typeface="Times New Roman"/>
              </a:rPr>
              <a:t>directly on a 3D object’s surfa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5934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945400" y="6165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ha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337440" y="1523880"/>
            <a:ext cx="59688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ae8e"/>
                </a:solidFill>
                <a:latin typeface="Times New Roman"/>
              </a:rPr>
              <a:t>3. Shadow editing process</a:t>
            </a:r>
            <a:endParaRPr b="0" lang="en-US" sz="4000" spc="-1" strike="noStrike">
              <a:solidFill>
                <a:srgbClr val="c8ae8e"/>
              </a:solidFill>
              <a:latin typeface="ＭＳ Ｐゴシック"/>
            </a:endParaRPr>
          </a:p>
        </p:txBody>
      </p:sp>
      <p:sp>
        <p:nvSpPr>
          <p:cNvPr id="99" name=""/>
          <p:cNvSpPr/>
          <p:nvPr/>
        </p:nvSpPr>
        <p:spPr>
          <a:xfrm>
            <a:off x="5576760" y="2590920"/>
            <a:ext cx="943200" cy="942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14680" y="6165720"/>
            <a:ext cx="54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52960" y="6165720"/>
            <a:ext cx="993960" cy="6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0200" y="1373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irectional ligh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45320" y="3213000"/>
            <a:ext cx="20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Shadow objec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373720" y="1523880"/>
            <a:ext cx="59688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37400" y="25909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3D mod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1640" y="1514520"/>
            <a:ext cx="3638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formation phase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the shadow object an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 the sha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6480" y="3083760"/>
            <a:ext cx="917280" cy="3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3173400"/>
            <a:ext cx="485640" cy="760320"/>
          </a:xfrm>
          <a:prstGeom prst="downArrow">
            <a:avLst>
              <a:gd name="adj1" fmla="val 50000"/>
              <a:gd name="adj2" fmla="val 391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7240" y="4195800"/>
            <a:ext cx="437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ransformation phase</a:t>
            </a:r>
            <a:r>
              <a:rPr b="1" lang="zh-CN" sz="2800" spc="-1" strike="noStrike">
                <a:solidFill>
                  <a:srgbClr val="ffff99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ransform and render the shadow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sing the shadow volume metho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566680" y="3068640"/>
            <a:ext cx="1368360" cy="3084480"/>
          </a:xfrm>
          <a:prstGeom prst="parallelogram">
            <a:avLst>
              <a:gd name="adj" fmla="val 2795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6680" y="3096720"/>
            <a:ext cx="112680" cy="86796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30760" y="3045960"/>
            <a:ext cx="114840" cy="889920"/>
          </a:xfrm>
          <a:prstGeom prst="line">
            <a:avLst/>
          </a:prstGeom>
          <a:ln w="381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ae8e"/>
                </a:solidFill>
                <a:latin typeface="Times New Roman"/>
              </a:rPr>
              <a:t>4.1. Creating the shadow object</a:t>
            </a: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486400" y="2209680"/>
            <a:ext cx="2438280" cy="2438640"/>
            <a:chOff x="5486400" y="2209680"/>
            <a:chExt cx="2438280" cy="2438640"/>
          </a:xfrm>
        </p:grpSpPr>
        <p:grpSp>
          <p:nvGrpSpPr>
            <p:cNvPr id="115" name=""/>
            <p:cNvGrpSpPr/>
            <p:nvPr/>
          </p:nvGrpSpPr>
          <p:grpSpPr>
            <a:xfrm>
              <a:off x="5486400" y="3276720"/>
              <a:ext cx="304920" cy="380880"/>
              <a:chOff x="5486400" y="3276720"/>
              <a:chExt cx="304920" cy="380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791320" y="3276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86400" y="32767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620120" y="3278160"/>
              <a:ext cx="304560" cy="390600"/>
              <a:chOff x="7620120" y="3278160"/>
              <a:chExt cx="304560" cy="390600"/>
            </a:xfrm>
          </p:grpSpPr>
          <p:sp>
            <p:nvSpPr>
              <p:cNvPr id="119" name=""/>
              <p:cNvSpPr/>
              <p:nvPr/>
            </p:nvSpPr>
            <p:spPr>
              <a:xfrm>
                <a:off x="7620120" y="32781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924680" y="32878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867280" y="2590560"/>
              <a:ext cx="533520" cy="533160"/>
              <a:chOff x="5867280" y="2590560"/>
              <a:chExt cx="533520" cy="533160"/>
            </a:xfrm>
          </p:grpSpPr>
          <p:sp>
            <p:nvSpPr>
              <p:cNvPr id="122" name=""/>
              <p:cNvSpPr/>
              <p:nvPr/>
            </p:nvSpPr>
            <p:spPr>
              <a:xfrm flipV="1">
                <a:off x="5867280" y="259056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6172200" y="2895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086600" y="3733560"/>
              <a:ext cx="533520" cy="533160"/>
              <a:chOff x="7086600" y="3733560"/>
              <a:chExt cx="533520" cy="53316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7391520" y="40381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7086600" y="373356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6553080" y="4343400"/>
              <a:ext cx="381240" cy="304920"/>
              <a:chOff x="6553080" y="4343400"/>
              <a:chExt cx="381240" cy="304920"/>
            </a:xfrm>
          </p:grpSpPr>
          <p:sp>
            <p:nvSpPr>
              <p:cNvPr id="128" name=""/>
              <p:cNvSpPr/>
              <p:nvPr/>
            </p:nvSpPr>
            <p:spPr>
              <a:xfrm>
                <a:off x="6553080" y="43434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553080" y="46483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553080" y="2209680"/>
              <a:ext cx="381240" cy="304920"/>
              <a:chOff x="6553080" y="2209680"/>
              <a:chExt cx="381240" cy="304920"/>
            </a:xfrm>
          </p:grpSpPr>
          <p:sp>
            <p:nvSpPr>
              <p:cNvPr id="131" name=""/>
              <p:cNvSpPr/>
              <p:nvPr/>
            </p:nvSpPr>
            <p:spPr>
              <a:xfrm>
                <a:off x="6553080" y="25146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53080" y="22096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010280" y="2590920"/>
              <a:ext cx="533520" cy="533160"/>
              <a:chOff x="7010280" y="2590920"/>
              <a:chExt cx="533520" cy="533160"/>
            </a:xfrm>
          </p:grpSpPr>
          <p:sp>
            <p:nvSpPr>
              <p:cNvPr id="134" name=""/>
              <p:cNvSpPr/>
              <p:nvPr/>
            </p:nvSpPr>
            <p:spPr>
              <a:xfrm>
                <a:off x="7010280" y="28954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15200" y="25909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943600" y="3733920"/>
              <a:ext cx="533520" cy="533160"/>
              <a:chOff x="5943600" y="3733920"/>
              <a:chExt cx="533520" cy="533160"/>
            </a:xfrm>
          </p:grpSpPr>
          <p:sp>
            <p:nvSpPr>
              <p:cNvPr id="137" name=""/>
              <p:cNvSpPr/>
              <p:nvPr/>
            </p:nvSpPr>
            <p:spPr>
              <a:xfrm>
                <a:off x="6248520" y="373392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43600" y="40384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dddddd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447920" y="2421000"/>
                <a:ext cx="62467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n・L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n・L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n・L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n・p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n・p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n・p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n・L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76360" y="4797360"/>
                <a:ext cx="16002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76360" y="4221000"/>
                <a:ext cx="1752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1671480" y="5376960"/>
            <a:ext cx="341172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on the groun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476360" y="5376960"/>
                <a:ext cx="334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181960" y="1341360"/>
            <a:ext cx="478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The shadow object is denot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by the shadow projection matrix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30760" y="585324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dow projection matri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4221000"/>
            <a:ext cx="38163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rection of the ligh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800600"/>
            <a:ext cx="417672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ound's normal vecto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889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ae8e"/>
                </a:solidFill>
                <a:latin typeface="Times New Roman"/>
              </a:rPr>
              <a:t>The shadow object in the editing window</a:t>
            </a: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608200" y="1768320"/>
            <a:ext cx="3930840" cy="3946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443320" y="1628640"/>
            <a:ext cx="2303280" cy="23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ae8e"/>
                </a:solidFill>
                <a:latin typeface="Times New Roman"/>
              </a:rPr>
              <a:t>4.2. Deformation</a:t>
            </a:r>
            <a:endParaRPr b="0" lang="en-US" sz="3600" spc="-1" strike="noStrike">
              <a:solidFill>
                <a:srgbClr val="c8ae8e"/>
              </a:solidFill>
              <a:latin typeface="ＭＳ Ｐゴシック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93720" y="2805120"/>
          <a:ext cx="2371680" cy="229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2805120"/>
                    <a:ext cx="2371680" cy="2297160"/>
                  </a:xfrm>
                  <a:prstGeom prst="rect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80040" y="2805120"/>
          <a:ext cx="2378160" cy="23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0040" y="2805120"/>
                    <a:ext cx="2378160" cy="2300400"/>
                  </a:xfrm>
                  <a:prstGeom prst="rect">
                    <a:avLst/>
                  </a:prstGeom>
                  <a:ln w="9360">
                    <a:solidFill>
                      <a:srgbClr val="dddddd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32440" y="1676520"/>
            <a:ext cx="27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al shap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shadow objec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24880" y="1676520"/>
            <a:ext cx="27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pe of the sha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after edi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08600" y="3276720"/>
            <a:ext cx="29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and drag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hadow objec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editing win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55480" y="56386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in the editing win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4000" y="3357720"/>
            <a:ext cx="744480" cy="7207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6:16:46Z</dcterms:created>
  <dc:creator>h-hidehito</dc:creator>
  <dc:description/>
  <cp:keywords/>
  <dc:language>en-US</dc:language>
  <cp:lastModifiedBy>morishima-lab</cp:lastModifiedBy>
  <dcterms:modified xsi:type="dcterms:W3CDTF">2007-01-23T16:21:33Z</dcterms:modified>
  <cp:revision>140</cp:revision>
  <dc:subject/>
  <dc:title>髪の毛による影の デザインツールの研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182271041</vt:lpwstr>
  </property>
</Properties>
</file>